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E82-19CA-4EA1-AB9A-5B6C94CE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030-62A2-4F6E-AC0B-BDC39EBD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A20-BA99-49C7-AC77-BB707256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FFE-7E8F-4AFE-B467-1A67779D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9DF-A65F-4DA2-AA12-4AB7111E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6A8-B832-416D-92D2-CA1F7B0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813-CECC-448D-AF48-D23FC67A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D87-9F09-4C6B-B974-E69D40F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14C-0F29-430A-8293-B50F16C3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73E-6771-44EA-9B8E-D918314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BDB-72AE-49ED-8811-C27CE14A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D3F-1F28-4FC8-857C-8E45C1D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64A-515A-46C6-8497-1EFBBA72F5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ce"/>
            </a:gs>
            <a:gs pos="5000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L Balance of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home read through the chapter (make notes if you w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 - Complet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am Q’s 1 &amp; 2 on P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L – complet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2 x HL Exam Q’s on P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00_F_15629419_D0yXkiKqqt3J1oxQNH7grqXflFCEHedL"/>
          <p:cNvPicPr/>
          <p:nvPr/>
        </p:nvPicPr>
        <p:blipFill>
          <a:blip r:embed="rId1"/>
          <a:stretch/>
        </p:blipFill>
        <p:spPr>
          <a:xfrm>
            <a:off x="3492360" y="2565360"/>
            <a:ext cx="5185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www.artsjournal.com/dewey21c/unintended_consequences.jpg"/>
          <p:cNvPicPr/>
          <p:nvPr/>
        </p:nvPicPr>
        <p:blipFill>
          <a:blip r:embed="rId1"/>
          <a:stretch/>
        </p:blipFill>
        <p:spPr>
          <a:xfrm>
            <a:off x="4381560" y="4005360"/>
            <a:ext cx="4762440" cy="272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6696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consequences of a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current account is in deficit then the capital account will have to be in surplus to balance out the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eans one of three things will have to 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Foreign exchange reserv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be used to increase the capital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ever, no country is able to fund long term current account deficits with reserves – eventually they will run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ay be that a 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high level of foreign buying of asse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wnership is financing the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eign investors may be buying property, businesses, or stocks and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it is based on foreign confidence in the domestic economy then this is not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sometimes viewed as a threat to sovereig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there is a drop in confidence they move these assets to oth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uld sell their assets resulting in an increase in the supply of the currency and a fall in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ay be that it is 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financed by high levels of lending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igh rates of interest will have to be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governments lending the money decided to withdraw it this would lead to a massive selling of currency and a sharp fall in the exchan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://3.bp.blogspot.com/-IB-qSfEKljc/T9yf_nD3V0I/AAAAAAAAAUY/vB3kdvCR71A/s1600/forgiveness-and-consequences-300x204.jpg"/>
          <p:cNvPicPr/>
          <p:nvPr/>
        </p:nvPicPr>
        <p:blipFill>
          <a:blip r:embed="rId2"/>
          <a:stretch/>
        </p:blipFill>
        <p:spPr>
          <a:xfrm>
            <a:off x="6804000" y="1557360"/>
            <a:ext cx="28576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5257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consequences of a current account sur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urrent account is in surplus there will be other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Arial"/>
              </a:rPr>
              <a:t>Allows a country to have a deficit on its capital accoun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y building up its official reserve account or by purchasing assets abr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However, one country’s surplus is another’s deficit and this may lead to protectionism by other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will usually lead to an </a:t>
            </a:r>
            <a:r>
              <a:rPr b="0" lang="en-GB" sz="2200" spc="-1" strike="noStrike">
                <a:solidFill>
                  <a:srgbClr val="00b0f0"/>
                </a:solidFill>
                <a:latin typeface="Arial"/>
              </a:rPr>
              <a:t>appreciation of the currency on the foreign exchange marke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it implies an increase in demand for the curr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is will make imports cheaper so reducing inflationary press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t will also make exports more expensive harming ex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static5.depositphotos.com/1008768/507/i/950/depositphotos_5073168-Consequences-road-sign-clipping-path.jpg"/>
          <p:cNvPicPr/>
          <p:nvPr/>
        </p:nvPicPr>
        <p:blipFill>
          <a:blip r:embed="rId1"/>
          <a:stretch/>
        </p:blipFill>
        <p:spPr>
          <a:xfrm>
            <a:off x="5724360" y="1322280"/>
            <a:ext cx="32562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554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ow big is a ‘big’ current account deficit or sur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two ways to interpret the size of a country’s deficit o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 as a proportion of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like having an overdraft on your bank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you earn $100,000 and you have a $10,000 overdraft this is manag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you earn $30,000 and have a $10,000 overdraft you may be in tr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g is only bad if you can’t pay it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9247" t="41146" r="25196" b="38185"/>
          <a:stretch/>
        </p:blipFill>
        <p:spPr>
          <a:xfrm>
            <a:off x="-378000" y="4403880"/>
            <a:ext cx="9722160" cy="245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HSBC-Microsite_09"/>
          <p:cNvPicPr/>
          <p:nvPr/>
        </p:nvPicPr>
        <p:blipFill>
          <a:blip r:embed="rId2"/>
          <a:stretch/>
        </p:blipFill>
        <p:spPr>
          <a:xfrm>
            <a:off x="6300720" y="2781360"/>
            <a:ext cx="26859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fashionsussex.co.uk/wp-content/uploads/2011/07/Stoves-Made-in-Britain-logo.jpg"/>
          <p:cNvPicPr/>
          <p:nvPr/>
        </p:nvPicPr>
        <p:blipFill>
          <a:blip r:embed="rId1"/>
          <a:stretch/>
        </p:blipFill>
        <p:spPr>
          <a:xfrm>
            <a:off x="6948360" y="4683240"/>
            <a:ext cx="1584360" cy="1952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561672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ethods of correcting a persistent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two types of policy used to correct a persistent current account defic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xpenditure-switching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successful imports will fall and the current account deficit should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Depreciating or devaluing the currenc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exports will become cheaper and imports 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depends how responsive domestic and foreign buyers are to the price change but the deficit should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Protectionist measur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restricting foreign imports will make domestic consumers switch spending from imports to domestic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s are often reluctant to use such measures because it may lead to retaliation and could be against WTO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ng domestic industries may also may them inefficient in the long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804000" y="333360"/>
            <a:ext cx="2160720" cy="201420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nditure switching polic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ttempt to reduce spending on imports towards domestic good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amusementtechnicalsolutions.co.uk/warehouse/buy_british.gif"/>
          <p:cNvPicPr/>
          <p:nvPr/>
        </p:nvPicPr>
        <p:blipFill>
          <a:blip r:embed="rId2"/>
          <a:stretch/>
        </p:blipFill>
        <p:spPr>
          <a:xfrm>
            <a:off x="6516720" y="2637000"/>
            <a:ext cx="2292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04836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ethods of correcting a persistent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penditure-reduc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lating the economy may reduce the current account but it is likely to lead to a fall in domestic employment and a fall in the rate of 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Deflationary fisc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taxes and/or reducing government spending which will be politically un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Deflationary monetar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the rate of interest and/reducing money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t money would flow into the country’s capital account helping offset the deficit in the current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ly unpopular because payments on mortgages, loans and credit cards will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ma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conomic costs of reducing a large current account deficit suggest why it is important to prevent it from hap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s will actively pursue export promotion policies – trade missions, govt advertising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804000" y="333360"/>
            <a:ext cx="2160720" cy="201420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nditure reducing polic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ttempt to reduce overall spending in the economy (shifting AD to the 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pendlessandsavemore.net/wp-content/themes/thesis_18/custom/images/banner.png"/>
          <p:cNvPicPr/>
          <p:nvPr/>
        </p:nvPicPr>
        <p:blipFill>
          <a:blip r:embed="rId1"/>
          <a:stretch/>
        </p:blipFill>
        <p:spPr>
          <a:xfrm>
            <a:off x="6273720" y="2781360"/>
            <a:ext cx="2863800" cy="102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thedigeratilife.com/images/savingmoneybank.jpg"/>
          <p:cNvPicPr/>
          <p:nvPr/>
        </p:nvPicPr>
        <p:blipFill>
          <a:blip r:embed="rId2"/>
          <a:stretch/>
        </p:blipFill>
        <p:spPr>
          <a:xfrm>
            <a:off x="6443640" y="3933720"/>
            <a:ext cx="4286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4897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Marshall Lerner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ory when a country’s currency depreciates its exports will be cheaper and there will be an increase leading to an increase in the current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not necessarily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much the price change has an effect on the demand depends on the PED of imports and ex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rshall-Lerner condition is a rule that tells us how successful a depreciation or devaluation of a currency’s exchange rate will 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demand for exports was inelastic and the price fell there proportionate increase in demand would be less than the proportionate decrease in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ame for im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mplete student workpoint 24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5508720" y="189000"/>
            <a:ext cx="3456000" cy="228852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shall-Lerner cond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ducing the value of the exchange rate will only be successful if the total value of the PED for exports and the PED for imports is greater than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PEDexports + PEDimports &g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elkerswikinomics.com/blog/wp-content/uploads/2008/12/j-curve.png"/>
          <p:cNvPicPr/>
          <p:nvPr/>
        </p:nvPicPr>
        <p:blipFill>
          <a:blip r:embed="rId1"/>
          <a:stretch/>
        </p:blipFill>
        <p:spPr>
          <a:xfrm>
            <a:off x="5477040" y="3068640"/>
            <a:ext cx="3435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0560" y="115560"/>
            <a:ext cx="6337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Marshall Lerner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able below shows a study of trade elasticities in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almost all cases the short run values were lower than the long run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o be expected because PED become more elastic over time (ability to look for alterna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the US  would meet the Marshall Lerner condition in the short run but all meet the condition in the long 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875640" y="115920"/>
            <a:ext cx="2197080" cy="366012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shall-Lerner cond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ducing the value of the exchange rate will only be successful if the total value of the PED for exports and the PED for imports is greater than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PEDexports + PEDimports &g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27499" t="53261" r="26799" b="26173"/>
          <a:stretch/>
        </p:blipFill>
        <p:spPr>
          <a:xfrm>
            <a:off x="384120" y="3860640"/>
            <a:ext cx="8372520" cy="30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54720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J-Curve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short term a depreciation of the exchange rate may not improve the current account deficit of the balance of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s due to the low price elasticity of demand for imports and exports in the immediate aftermath of an exchange rat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lly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imports will remain steady partly because contracts for imported goods will have been s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ever, depreciation raises the sterling price of imports (that will also remain steady due to contracts with suppliers) caus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total spending on imports to 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ort demand will also be inelastic in response to the exchange rate change in the short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the earnings from exports may be insufficient to compensate for higher spending on 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alance of trade may worsen (X to Y) in the immediate aftermath of a fall in the external value of the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s widely known as the J-Curve effect as seen in the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ED for exports and imports increases with time until it meets the Marshall-Lerner condition and satisfied leading to a movement from Y to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~PP2144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14920" y="1268280"/>
            <a:ext cx="3478320" cy="379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08:03:14Z</dcterms:created>
  <dc:creator>Rom</dc:creator>
  <dc:description/>
  <dc:language>en-US</dc:language>
  <cp:lastModifiedBy>Julia Peters</cp:lastModifiedBy>
  <dcterms:modified xsi:type="dcterms:W3CDTF">2012-10-04T12:33:23Z</dcterms:modified>
  <cp:revision>38</cp:revision>
  <dc:subject/>
  <dc:title>Elasticities</dc:title>
</cp:coreProperties>
</file>